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38AC-59C3-4F13-96F3-81EA29B7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AF70-C7E1-45C4-8859-F551326B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E74D-51FB-4940-9E26-3613E4C8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5049-8466-4BF8-9E7D-4E3BDDA2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8239-95AD-4736-845F-AC7EFD53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C1FA-F3BE-44CA-823D-97F8E086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4ADD-2EC2-4B84-A34E-FE157AE6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CAD7-6CA1-4E12-9FCF-86B00C45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F754-0EF3-4E7C-A8F4-458EF9AD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E806-3E98-45C6-A5A1-7812EFAB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3128-2A84-451F-8475-B767456C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06AD-8F28-4E54-8A62-55332BA8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BBC0-C50A-4F30-8BDA-0E599A1FD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 Ultra Bold Condensed"/>
              </a:rPr>
              <a:t>Ratios and Unit R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Impact"/>
              </a:rPr>
              <a:t>By: Alec, Sadie, and Jess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327636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Impact"/>
              </a:rPr>
              <a:t>Rat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ill Sans Ultra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Book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- Comparison of two quantities by </a:t>
            </a: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ill Sans Ultra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Our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- Putting two numbers compared by a </a:t>
            </a: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fraction 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What are the three ways to write a rat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Impact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143000" y="3962520"/>
          <a:ext cx="4876920" cy="2557440"/>
        </p:xfrm>
        <a:graphic>
          <a:graphicData uri="http://schemas.openxmlformats.org/drawingml/2006/table">
            <a:tbl>
              <a:tblPr/>
              <a:tblGrid>
                <a:gridCol w="2438640"/>
                <a:gridCol w="24382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a J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have a J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380880" y="1295280"/>
            <a:ext cx="8458200" cy="19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Ultra Bold Condensed"/>
              </a:rPr>
              <a:t>A survey asked students whether they had after-school jobs.  Write each ratio as a fraction in simplest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ill Sans Ultra Bold Condense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Ultra Bold Condensed"/>
              </a:rPr>
              <a:t>Students with jobs to students without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ill Sans Ultra Bold Condense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ill Sans Ultra Bold Condense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Ultra Bold Condensed"/>
              </a:rPr>
              <a:t>Students without jobs to all students surve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 rot="20931000">
            <a:off x="7086600" y="4648320"/>
            <a:ext cx="1276200" cy="190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592800">
            <a:off x="6629040" y="1980720"/>
            <a:ext cx="2117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Impact"/>
              </a:rPr>
              <a:t>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ill Sans Ultra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Book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ill Sans Ultra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Ultra Bold Condensed"/>
              </a:rPr>
              <a:t>Is a ratio that compares quantities in different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ill Sans Ultra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Our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ill Sans Ultra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Ultra Bold Condensed"/>
              </a:rPr>
              <a:t>Fraction that is in different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Ultra Bold Condensed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Impact"/>
              </a:rPr>
              <a:t>Unit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ill Sans Ultra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Book Defin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ill Sans Ultra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Ultra Bold Condensed"/>
              </a:rPr>
              <a:t>Is a rate that has a denominator of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ill Sans Ultra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Our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ill Sans Ultra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Ultra Bold Condensed"/>
              </a:rPr>
              <a:t>Finding how much one unit w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rot="486600">
            <a:off x="6095880" y="44956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35515" r="0" b="40187"/>
          <a:stretch/>
        </p:blipFill>
        <p:spPr>
          <a:xfrm>
            <a:off x="685800" y="5486400"/>
            <a:ext cx="43434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Impact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6 fluid ounces of laundry                  detergent costs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$</a:t>
            </a: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0.78. Find the unit 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Formula: </a:t>
            </a:r>
            <a:r>
              <a:rPr b="0" lang="en-US" sz="2800" spc="-1" strike="noStrike">
                <a:solidFill>
                  <a:srgbClr val="ffffff"/>
                </a:solidFill>
                <a:latin typeface="Gill Sans Ultra Bold Condensed"/>
              </a:rPr>
              <a:t>price/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719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Impact"/>
              </a:rPr>
              <a:t>Converting 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ill Sans Ultra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Our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ill Sans Ultra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Ultra Bold Condensed"/>
              </a:rPr>
              <a:t>Changing one rate to equal another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Ultra Bold Condensed"/>
              </a:rPr>
              <a:t>Convert 10mi/hr to feet per 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 rot="20682600">
            <a:off x="609480" y="2971440"/>
            <a:ext cx="8636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 rot="582600">
            <a:off x="7238520" y="4800600"/>
            <a:ext cx="1600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Ultra Bold Condensed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Gill Sans Ultra Bold Condensed"/>
              </a:rPr>
              <a:t>Good Luck on the Test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Wingdings"/>
                <a:ea typeface="Wingdings"/>
              </a:rPr>
              <a:t>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26668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9:13:49Z</dcterms:created>
  <dc:creator>Student</dc:creator>
  <dc:description/>
  <dc:language>en-US</dc:language>
  <cp:lastModifiedBy>School</cp:lastModifiedBy>
  <dcterms:modified xsi:type="dcterms:W3CDTF">2010-03-08T19:33:12Z</dcterms:modified>
  <cp:revision>6</cp:revision>
  <dc:subject/>
  <dc:title>Ratios and Unit Rates</dc:title>
</cp:coreProperties>
</file>